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3B9E-2225-4BD2-A9E4-90D5B879A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C848-7DEB-44AF-A901-4C88EA6E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97A8-ADF5-4585-9CFD-4BB751925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2E10-1A2F-4E8D-B0F5-D4111164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CE89-7A93-44A2-9046-D1FF234E6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4944-82B8-4887-AA9D-8E2EB026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FD83-E4CA-4DB7-A572-F50C0D76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BF94-AAC5-4769-9DB2-7A06EE31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FFC3-7E54-459D-A250-F8D3AACF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23B3-4AC4-4F4C-AD52-A0FF9BB4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0AF9-0E45-467D-984A-1A70D2F9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5EA5-20E2-4450-BD02-7E99D31B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C9F0-FBF2-4C46-9038-09E50ECD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8E8A-8CF8-442C-A72E-B913E509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69CD-28C4-4FA2-95D4-8951FD02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5027-AB0F-4D80-8C8A-01D94549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680C-3353-489E-8BF4-F727B1929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2D48-126B-4BFF-BDF6-5CD4772F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095C-7BAE-468E-BA0D-07DBA4D3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1BE8-E6C0-4161-A1B5-11FDA088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E2F6-702F-48F1-A3BE-ED07820C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D8DE-8386-41F7-9065-C0DBD725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7ADB-FC98-4C8B-9953-EF1C3661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1704-01DA-4320-A724-648EA8EF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eff58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eff58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6399-F778-414B-B7D5-9BD4D3E78075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BD52-1A52-4174-891C-67E5EF4EC13F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eff58"/>
              </a:buClr>
              <a:buSzPct val="8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229600" cy="25905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ill Sans Light"/>
              </a:rPr>
              <a:t>Extermination of the Jews</a:t>
            </a:r>
            <a:br>
              <a:rPr sz="5000"/>
            </a:br>
            <a:br>
              <a:rPr sz="5000"/>
            </a:br>
            <a:r>
              <a:rPr b="0" lang="en-US" sz="3300" spc="-1" strike="noStrike">
                <a:solidFill>
                  <a:srgbClr val="ffffff"/>
                </a:solidFill>
                <a:latin typeface="Impact"/>
              </a:rPr>
              <a:t>What were Adolf Hitler's reasonings and strategies behind killing the Jews?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SvtyTwo OS ITC TT-Bold"/>
              </a:rPr>
              <a:t>By: Mallory Go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Leader of Nazis and Holocau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Occurred during WWI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XPLANATION- Why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arsh childh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Loved violence and figh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gainst Jewish belief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ear of taking o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ated them from the st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XPLANATION- Tactic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Law against citizensh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greg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Burned homes and synagog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laced into concentration cam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M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Gas chambers and cremato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haved heads and given tatto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ldom food and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pread of dise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eath Mar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eath of over 6 million Je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onsidered largest “Mass Murder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uicide of Hitl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4:10:58Z</dcterms:created>
  <dc:creator>PA Department of Education</dc:creator>
  <dc:description/>
  <dc:language>en-US</dc:language>
  <cp:lastModifiedBy>PA Department of Education</cp:lastModifiedBy>
  <dcterms:modified xsi:type="dcterms:W3CDTF">2008-05-28T14:17:27Z</dcterms:modified>
  <cp:revision>16</cp:revision>
  <dc:subject/>
  <dc:title>Extermination of the Jews  What were Adolf Hitler's reasonings and strategies behind killing the Jews?  </dc:title>
</cp:coreProperties>
</file>